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E52-CE6D-488B-B06C-9AA15026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215-3823-4508-9FEE-83CC0C2A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F3D-B3B5-43C9-9A56-ECC673B3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68F-6D24-4EF2-9EEA-0183E919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71BD-0C56-4B6A-A8A4-D172E425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5F32-DF69-4F5D-94EE-08C400F8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A49D-1CBB-4D1A-9C08-4531735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2A49-7A26-4916-A57A-C637B71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DABB-4017-465B-B4BB-D0CFDB5C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9140-E46D-4303-83F3-3F4E815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331F-D325-47A6-BD57-DBA80BDB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251-939C-4124-9EFA-BE8A132D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C1CC-81B0-4EC1-9EF5-7F724C6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2BE2-D72D-4CD4-B9C5-8513F08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99DE-2EC2-4E77-B00E-6DBB2268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EAB1-E0D2-4BD7-8D36-DF403DD4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EAFD-3588-48F6-953E-21B4D6B3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6D68-2F82-4123-8355-ACA740F0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9CC3-F065-48F7-856E-CA0E5366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4C26-5678-4519-A768-E5B1C4EE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055A-066D-449C-86C6-900711B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512C-4BDB-4A47-B68A-753105F0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FDA-E717-425E-B156-72D51363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24E6-506D-4D55-B7E9-33F752C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F886-1EFE-47A4-90AE-5F59A89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421F-1CB8-43BD-8A80-21967D9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F4FB-58AF-4C27-BA29-129952C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41B2-6629-426F-B3DC-801EDF3D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C7F5-A0CA-4441-A495-2EBFC3DF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8154-EE9A-45E6-9A41-169D0AE1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D09B-C8D3-4267-8680-63B148E9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B57C-C73D-4260-BEA6-EB57D0CA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3EA3-0764-4F6F-A74C-D1C02D8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D02-1BD8-4C23-8ADD-6EFAAA2A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913A-A778-4028-BBB4-614ECB03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2E2E-FC08-4216-8B47-8503B6D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D9968-C05C-4F0C-8305-4A8F0EA1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481D-B3A3-47C4-9A8B-77E2F482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8B20D-A112-4A03-A443-3158F786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BBF0-BCCC-4EA8-A193-29599E5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03A7-0BB4-4DB2-AB6A-817ABB23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0A95-0F4F-4BE5-8E26-E725D210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3C917-1E2C-49FA-9533-9BF23C2A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FD47-1D1B-4751-8B27-4E6CCADB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0AD-7F0E-487C-8EEC-D62BF80C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3169-D23C-44EA-85D0-88B524CB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15E9-4AD1-4266-BE31-6F49DCDD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7BE9-0B46-4C3B-B745-58057D2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64F0-42B3-4375-8B64-AA1F4523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6BF1-414B-4028-A92A-B39D751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3960-1924-4FE1-8AFE-456A17E9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FEBF-E169-4F16-BBC0-F3648B7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50A3-B667-4DB1-AAB8-309BE2D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B744-ADE1-4C6F-A3DC-15659A7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FA631-5567-468C-BBB3-1B89DB80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36B-CECF-4B0A-8AC5-A68BD8A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5124-C5FB-4F6D-9FC8-DB1F02CA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56B8D-E0E3-4707-B718-28ABDD70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4AC9F-D5F2-42E5-8905-4AF282EF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6C39-A270-4943-B1FF-1C7A1D61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D841-1EE4-407A-8C46-8F7A710A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EE9C9-3F60-4797-A66E-C5BAF89C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9237-D7F6-4B11-A997-1647D00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202BE-F8A0-4DFE-B3CA-B4DEA22C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C73C1-F8FF-4466-B20C-A4A30D9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9985-6F0B-4570-9F15-E0D2BA2B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950-492D-4F65-B7AF-598C61DD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4FA6-F531-4E03-BF53-174C9005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222F-9D53-43FA-A033-E537F90A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3C925-4537-4C09-AF0C-652D8227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76FFD-D826-4504-8876-40BACF6C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CB8B2-F430-4C94-A4A2-E1CE564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C96D4-0DBB-48DD-86A6-FDF1031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086D-1787-4B6B-BE96-091E85F8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B7550-00DF-4ABE-A840-6E31DA7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E29F-5AD3-45BA-B7B0-E3F0765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C059-7C3C-4708-B600-240C9E3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C83-3FCA-4EF8-902E-849B1906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CE1C-AE7B-4FA7-ACC8-66609DB4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5F515-1C47-4FB4-8611-94DB7E2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F3C67-BA7B-41AF-B073-CF0182E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46F59-41CA-4567-A2AF-0096E8B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EFAC-6F8A-4C0D-BD63-B661B1F3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B46-D59E-4BCB-8C97-EE5996C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B63D0-5197-4583-86EE-B4646ACEE30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973BD-CD14-4A01-AE01-8CFEAE1923A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2FFFC-F952-4730-8513-CBB143397E8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D3B94-8DA7-4CB1-884F-6A27627BD3F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2504D-2955-4C9D-86F5-3A2B1205611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F25B7-DEA5-4883-9F20-5FDD745CE6C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CD05D-C5B3-4D5C-BB02-731BFD05661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34FCB-5CB5-4777-AD52-1F1F39433B7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26A1D-0C2F-460B-9F5E-07DCA1694BA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5BC2F-5FB8-4A38-8682-4E22C3EF219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1D6F1-8B78-4766-AB06-09A83601E75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5E7AF-DB64-410B-8622-A016CFA2FDC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83A12-2A73-4C9B-8948-0E6A2AF5997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0FDF8-5478-46E8-8CDE-455AD405633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elipe and Alvar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 deposition is any combination of airborne dry acidic particles and precipitation that falls to the ear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occurs in forms such as rain, snow, mist, and fo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_x0016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 rot="402600">
            <a:off x="1218960" y="3902040"/>
            <a:ext cx="3765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es it 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o of the main sources of acid deposition are natural emissions and anthropogenic (refers to industrial emissions and other man-made polluter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nitric and sulfuric acids are released into the atmosphere by smokestacks, fuel combustion, or natural causes, they mix with water vapor at unusual proportions to cause acid deposi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u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causes include volcano emissions, lightning, and microbial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itric and sulfuric acids are released into the atmosphere by smokestacks, fuel combustion, or natural causes, they mix with water vapor at unusual proportions to cause acid deposi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ffe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water, acid deposition mutates and kills fis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s can leach heavy metals in the water and release harmful metals into the aquatic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kes and rivers become lifeless due to the effects of acid deposi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could be done?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ternative power pla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ducing the consump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al washing ( removing sulphur before burning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el swit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9:11Z</dcterms:created>
  <dc:creator>Felipe Salaverria</dc:creator>
  <dc:description/>
  <dc:language>en-US</dc:language>
  <cp:lastModifiedBy>Felipe Salaverria</cp:lastModifiedBy>
  <dcterms:modified xsi:type="dcterms:W3CDTF">2009-12-16T12:37:59Z</dcterms:modified>
  <cp:revision>12</cp:revision>
  <dc:subject/>
  <dc:title>Acid deposition</dc:title>
</cp:coreProperties>
</file>