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A10E-644E-4C71-BBBE-568D0C04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0684-9582-415F-8833-7CB47178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88E-8857-4D78-A456-8728E8C2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CD40-6465-40E9-9C67-3696C3EC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02DB-186B-490D-8FBC-390F7D43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EC42-2E95-4EDA-9A2A-28CACDC0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D6A8-1B3E-49BF-8EC0-D4C59E9D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F106-21F8-4B72-B0EE-A45D77BF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339A-9640-401E-98A2-F9F57DC5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C43D-D3E1-4633-B557-63EBF849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A602-5272-4514-9C95-D1380713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B84-4044-49CF-8111-81CFE126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F7FB-1A43-4283-9B4B-53849D2B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1878-06F1-4C62-888F-840BE7A9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A5CB-C9E6-45CB-BB12-CB6E3574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BDD8-BAA7-4664-91A5-997A93A6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B0CC-12F9-425C-B5E7-EEE0978C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B9410-D674-49A8-A3B4-C2FF694E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F7F82-8C1D-46F6-9081-40739C46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86E9A-E39C-4CD0-9911-280EC2C7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5B381-4F5F-4095-AA7D-C25055F7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EC4D1-A608-4FF8-9133-1CFB74C0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6923-83F4-4F0B-A37C-EABCFF20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29D41-EF47-4412-9480-5D950973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2377A-55FC-4B8A-8A0B-1B2241EF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A5FBD-6EC7-4069-AFA3-480891F6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CDC46-6F50-49AE-8214-62950CBE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2DE06-156F-4D07-80A8-06C8905D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AC1E4-3C29-425A-84D0-49585A32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1D207-7A7E-4CD5-9B6C-F51073A1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360F0-127B-4899-A511-C88EDD74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72A5A-2FAA-429E-B750-AD5FB0E8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AFFBB-DFC1-4DB8-ABC7-D0774498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842-CF7E-4497-9BE0-B71F72E1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8EA50-E51E-4557-B6E6-16C8DFBF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E72A5-197F-465A-B576-8BC1CD52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5243F-0ABF-43A2-B033-4302944C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B0ADC-B8F1-47E0-A928-3D91E15F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1B2C8-19A8-41B9-B195-A80D4719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EECAD-4B23-4AFC-A3EC-38E240F5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57F69-609A-4A9A-8DCA-34B356B3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68652-AD3C-4FEE-99C2-0CA82C5C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3F97E-466D-4565-BE2D-7157A6CC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2309B-E18D-49B6-8DA9-0DC5A860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7FEB-F4DF-4C18-8C10-998487E5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F7C23-5849-40FA-86F4-CC4D6DAC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66450-489C-4985-AE7A-A5F8F5C6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E3580-6457-44F7-A8CD-806C0A62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D543F-35EB-476F-B4A8-B878853D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14E24-2077-4D5B-B15B-68CE43E6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561D8-2BDB-4E98-AE3F-C154AF64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E7771-1956-4F20-879F-EEB2343C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71444-8B9E-485B-9CA3-33FA1D57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35793-128E-4CA9-94D5-2CE0625A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2D2A3-89D1-4C1A-BF3B-7727CA3F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166-5F48-4D98-9167-C3D9C1EF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9B365-4E49-4B63-A158-5A1E370F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8C01B-2C0A-4FF0-9934-2FFF7A4F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E7ECA-17D0-476C-9F47-B777B40E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B20ED-7D62-4F6D-932E-3C258A34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6A91A-9EE4-4E6A-82D8-C5F6ECCA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E7CD4-8B80-4541-AE6B-F0B35864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BC648-CB5C-40CA-8912-67A3A35F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A9885-324D-4603-BA0E-C14DB484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379E0-4DD7-4A7D-8EF4-A7EEC071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F10F1-6CF9-4B46-A925-AC801141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A14-6B8C-4DD9-AF59-76D8984F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C91B0-06B0-4F3C-B781-E0608DF4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4B94B-2539-413A-B3DE-C31787CA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F0AF4-A1BC-4695-80AB-1F602CAC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7968B-070F-4C8E-95E2-D4145CA7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7450F-46D0-4A64-8EA2-10682295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8403A-2FF5-4D92-B42E-440974B0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DF733-0B07-403C-A844-AB9F2A92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CDCE5-9D94-4375-BED1-E7ABD1E3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245EA-ED03-4A5D-A17B-EC041C0C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6DEFD-2DEF-4B09-91E3-F983531E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A9A0-F319-4B13-A506-E1CCE273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24C7D-CA5B-4A4E-874E-AC2E6312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F25FB-5761-4A42-B04A-E2B3B062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24808-5B5A-4D59-BCC0-B1DEC92F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8509D-61C7-45FF-86A5-260FB663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00B0A-9FA3-4638-B3DE-280CDD43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B85-524A-404D-A4A5-6A38F5B2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D92B2-F37D-42E0-989E-87EDEC0D100E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EE3FA-7191-46CE-806B-08C3C28E6A3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B4D2D-5542-4920-AEF2-97AF3E70CFEE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FC475-D7FF-4D5C-A464-87B673F6099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CDE75-2D5E-4EF9-9859-63E0B6D69C3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E46C7-244D-4F4C-9CBC-C20CAC304C5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D37BF-2C7C-4632-B7E6-6441E8284989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B3E7C-C6FB-497C-A61B-951291AA6D2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6AD5A-0BA9-4F9B-932A-25B92CF399FE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18BC1-C615-4B6F-B89F-8A4EF77222B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25BDD-36C8-4139-9456-E2E813C7300B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C2C1C-7AC2-4152-94D4-55054085F3D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A5722-88B8-460C-9217-433A267A65C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F055D-4BA1-4994-B67E-0F6AAEF8A5C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19814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elipe and Alvaro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is it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cid deposition is any combination of airborne dry acidic particles and precipitation that falls to the ear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t occurs in forms such as rain, snow, mist, and fo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_x0016_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 rot="402600">
            <a:off x="1218960" y="3902040"/>
            <a:ext cx="37656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w does it form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wo of the main sources of acid deposition are natural emissions and anthropogenic (refers to industrial emissions and other man-made polluters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n nitric and sulfuric acids are released into the atmosphere by smokestacks, fuel combustion, or natural causes, they mix with water vapor at unusual proportions to cause acid deposi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aus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atural causes include volcano emissions, lightning, and microbial process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itric and sulfuric acids are released into the atmosphere by smokestacks, fuel combustion, or natural causes, they mix with water vapor at unusual proportions to cause acid deposition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ffec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water, acid deposition mutates and kills fis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cids can leach heavy metals in the water and release harmful metals into the aquatic environm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kes and rivers become lifeless due to the effects of acid deposit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could be done?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lternative power pla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ducing the consumption of energ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al washing ( removing sulphur before burning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uel switch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59:11Z</dcterms:created>
  <dc:creator>Felipe Salaverria</dc:creator>
  <dc:description/>
  <dc:language>en-US</dc:language>
  <cp:lastModifiedBy>Felipe Salaverria</cp:lastModifiedBy>
  <dcterms:modified xsi:type="dcterms:W3CDTF">2009-12-16T12:37:59Z</dcterms:modified>
  <cp:revision>12</cp:revision>
  <dc:subject/>
  <dc:title>Acid deposition</dc:title>
</cp:coreProperties>
</file>