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B26-E3F1-4E9B-83E9-4E4DE72A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4A2-F434-42EF-A7DD-9FF82CCF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373-5F49-440E-B370-4661F366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EDB-5A0D-4EE7-A408-0A39BD7B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253D-EDFE-4C51-AA1C-178A5B00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F8FC-EE3E-4237-B48D-85CF2C4D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0294-203B-400B-8CEF-197B42A8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3323-7776-4B47-A69E-24AA56CC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DBF7-F5A5-4265-B501-2C885F73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0035-6EEC-4A1C-BB01-6EFCB54A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272E-B7CC-4614-B02E-6FF6FA7D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D5C-9DAF-462F-A7AE-6AEACAD5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82D9-5C62-47CC-826A-2FDAF9BF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C57C-6F5F-4A9F-BA65-75DA87B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0E59-3656-424D-83C8-6F94331B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8433-16CD-4BF6-9A71-76FF8DD5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8287-3E66-4A1D-9CAE-A9855306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E01C-9E75-48BF-B228-C4F94071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5EB5-1575-4869-8AA1-9C73F5E3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D772-2139-46AE-8679-D5FFC72F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B28E-CD4E-42A9-A3A4-594FB300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B1BD-DDCA-40B2-A1F0-A7C8C543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820-BAC2-4770-A3C4-E544BC2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84D0-F08E-47E1-BEDA-3DB09362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425A-8656-4CBE-8031-E3188D88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988B-C587-4B46-96BF-576CC12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9B46-C1B1-402F-9E49-7C94A952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EDD6-34F6-46E0-ACB1-0AB9C407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D685-2E78-4C09-A81F-3C286026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C073-005F-41EB-81D6-AE975A9D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E555D-31A1-48F0-BF5E-090CFE6F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136DB-3D29-4931-B3BC-92B9DF7E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A084-B74C-4617-AD7F-747D9CB6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598-85D1-4DE0-8261-68714B35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FBE3-AC85-4425-8ED9-EFC9EBE6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F2A9-5605-4F98-B5EE-C7131703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9387-94C9-4CD6-9EA2-4131AFBE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08588-72BC-4840-94E8-C7060460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B61C-AA8F-4A37-BEB1-B72B29B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3F7F-3EA3-4234-AE4A-7B0257E2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0B7B-7B83-45C8-A3C9-EFB103AA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42DF-3EB9-451F-ACDC-734B19A1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220FB-0F62-40C0-8F45-8F3D6B50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FD882-A16D-4016-9C3D-8DB153B2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E36-BDEE-4B71-BD2A-1B0E89D6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AC53-A267-41F7-9B17-9479E7FD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4AB1-5CB2-4A33-AE2D-BA0AD9A1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73426-7084-47BC-A28B-963EDF6C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7572-BE13-4BBB-BC6E-0927BA26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D9519-435C-44B6-B6DF-E1B61F12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139B5-88B5-4AC0-9FE6-C5B62F9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C35C-980A-42FB-B58D-2E04184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B3C11-5792-4BA6-AFD6-41E5C008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7374-5B47-43FE-B9A8-0096BA25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A268B-1F46-4CCC-862C-069C5B50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F7F-9B55-4564-96BC-382EE91E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FD354-9556-42F5-8A75-C49F6C01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3C186-2715-41BB-9749-A4B4D031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14C62-B1D8-4FBC-8447-82ACD011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4FE06-2A00-4629-9B6E-8BE35FFD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F9B54-0699-4FCE-8530-0A18E767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42DFE-7E72-47EC-862A-886E95D6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0FED-5DB5-4CD5-AAFE-C19AC5D9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57EC4-7369-49CD-912C-D7461B08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2AEA5-D976-40B8-8F66-4B288391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CD3DC-2790-4D1F-A56F-65651D34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C0C-61B7-4867-B0E1-0C973EF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097F1-B7A0-486C-B3A1-5DE29712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3C438-E801-4270-B23F-A93C0354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3E197-25DC-496D-97E9-1D8BC38B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196DD-3D35-4B60-A3E9-50D6034B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B1FF-D100-49EF-8136-DC5875E3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A7645-2218-4BE6-86D0-B3303C48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AA24D-2668-432C-98C3-30FCB030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89BC-B27C-4C67-8962-A9F73874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9E63A-C25B-4E4F-8AAA-A98B9C53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86D5B-B354-4DA1-B69B-1259123B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8DE-E03A-4FEB-8D90-7507884B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068C1-248C-4EC8-843C-210AE2CF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33FE8-B1D5-41C2-B938-3A5494E5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E5E85-66B2-4F83-AC4B-A657C74D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67396-B12E-40D2-AEB2-D35A1C1F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63459-1E6D-4A12-8037-0662ABDB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052-7510-4DFD-8F81-15CD306A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F0AED-A898-405A-B7E1-0626779599A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C7CB8-F441-4F4D-B64E-04AD914D4CC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1A75A-6C45-4A11-822D-4011EFED8DC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8495C-0F3C-47AF-B1DC-F76B7DA2A95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4EC0C-4800-4E22-8B81-96EE08463BB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D0D06-1E36-495F-8D6E-F0FAECB21A7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5623F-E35E-4B64-98EA-F67BA2CF261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08462-131B-473D-9598-C6856D44BF6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9CF5F-80F2-4983-B0AE-644AD02432B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50D78-3B1E-4544-819B-179C6FCCB20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9C177-4800-428D-8A41-CD14F0A7555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A50BD-9918-4FE0-8065-13A21A6BE71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66AE5-BDB8-44FD-BBBB-6EFB0D66FC2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F22CE-5DF9-4732-B366-EA16A2D1228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elipe and Alvar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 deposition is any combination of airborne dry acidic particles and precipitation that falls to the ear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occurs in forms such as rain, snow, mist, and fo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_x0016_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 rot="402600">
            <a:off x="1218960" y="3902040"/>
            <a:ext cx="3765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does it form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wo of the main sources of acid deposition are natural emissions and anthropogenic (refers to industrial emissions and other man-made polluter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nitric and sulfuric acids are released into the atmosphere by smokestacks, fuel combustion, or natural causes, they mix with water vapor at unusual proportions to cause acid deposi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u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atural causes include volcano emissions, lightning, and microbial proces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itric and sulfuric acids are released into the atmosphere by smokestacks, fuel combustion, or natural causes, they mix with water vapor at unusual proportions to cause acid deposi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ffe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water, acid deposition mutates and kills fis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s can leach heavy metals in the water and release harmful metals into the aquatic environ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kes and rivers become lifeless due to the effects of acid deposi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could be done?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ternative power pla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ducing the consumption of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al washing ( removing sulphur before burning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el swit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9:11Z</dcterms:created>
  <dc:creator>Felipe Salaverria</dc:creator>
  <dc:description/>
  <dc:language>en-US</dc:language>
  <cp:lastModifiedBy>Felipe Salaverria</cp:lastModifiedBy>
  <dcterms:modified xsi:type="dcterms:W3CDTF">2009-12-16T12:37:59Z</dcterms:modified>
  <cp:revision>12</cp:revision>
  <dc:subject/>
  <dc:title>Acid deposition</dc:title>
</cp:coreProperties>
</file>