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A87-EC8B-4A82-A989-F327B69E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6EC-E2C9-4203-A066-744D0E95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7B6F-735A-473C-BB7B-448FC35F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481-496F-40DA-9FDE-939ADBFB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D85B-73FB-46B6-B881-FAB26F0C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0D3E-52AC-4259-8D84-52910936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2194-4D87-4234-A7A7-23A8B368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9503-BF0B-4BAF-8FCD-C852DC83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3950-FAC0-4B49-8035-554A6426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5782-DAD8-44A9-A45F-BF3EF1E9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3598-F550-43E6-9789-526BCDA1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6EA-3434-4780-B57D-33BC2FEC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CD6F-DD1A-4D60-8125-161D6E6A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53A0-02F5-42D3-A43E-8D1B3305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335E-38C8-4C42-95E2-137DE912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798F-33E0-4D8D-BD0D-DA0AB231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BDB7-5907-4AEF-BF5C-1194891D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575E5-2504-447E-9168-0BF189D8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24DCD-5305-4D19-B74E-8C49D991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39BA2-5DA7-4601-8199-0E87B0B7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B0655-E1BD-4488-8DAF-9B5C90B7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0B042-87EB-4C73-9EEC-EDDAB92F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60E-73BA-41D5-9242-0ED11043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C0C30-3614-4BCE-AA4B-98B0D8FD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E37B4-08C7-49D3-822F-33C24DE6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4ADA1-C8B3-42F1-A7CC-944C686A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1A0BB-7C25-4CCB-B14E-D3BF8779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79AA9-A54D-406A-8F66-8C438F36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1F42F-C86B-456E-8397-290B41F2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53330-25CF-45F6-9EBB-403287EE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A590A-B5C8-4EAD-B97E-0E7FC8ED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C4534-3704-4DDF-8550-02A78964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72013-AEAC-45A5-A8E5-67D7381C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D866-0C52-46A0-A430-0E2D06FD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07A6C-2606-4D5C-A787-65BE96F9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F0DD8-FCC8-4A15-9D67-FAB20950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A3141-27BA-4D79-8254-CCAFEE3A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331DB-7B63-4AC3-A7A6-C54A9113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6E461-3E87-4DAD-9E75-6F0AFBDB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1FEF8-07C5-4B9F-A4B8-3B0ADAFC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B0B21-186D-469B-95D3-E67426B3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85930-A987-458D-9106-21009DFD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A6CAA-A437-4343-AD5A-2FD51B2E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471A5-AC2A-4161-8D53-BC02F88A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030-A270-434F-8E25-866B2779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222DA-709C-4DD7-BA2D-1B1BDD9B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F14E5-53F0-4FA1-AC16-B3EE7636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79E38-ACD0-41ED-9CEB-5E10BBE5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9E880-5031-402A-B40B-35545A8A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E92F6-D680-402A-B974-1730CDD9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DDBD2-FE19-45B6-85F2-85A92589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B4B72-FB8E-43D1-9F72-79A94261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DCF46-D076-4240-ADC1-6372B9A4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6812E-F919-4449-B512-69A85E06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65377-734C-4340-BBE2-25D0C802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C30D-0840-440F-AE68-35423B6D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0D85F-C170-4B1F-B2BE-B3C9F0B5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51DEF-BD70-42A7-83DC-FC27E32E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67FBA-6FE7-4EF1-9B0B-D76C5BC6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B89FF-8AFA-4E80-9855-EE4FA4FD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03739-4C00-4ED8-98DC-E9A22F19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2D778-BD6F-4B02-9EB7-B5200CAA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7CBDB-9F56-4EB7-9E3F-03D2DB15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F1A47-8284-40F3-AC4D-4C638736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2AF68-6AB1-48FA-B672-3B0D25DB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9CCEE-FE24-464C-92D3-0AAE89F9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A69-E807-4B61-96E1-527EA17B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5506C-42E3-47B2-BC9D-13C37F4C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6FFB4-F370-4E95-9CCE-4BA5B6CA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1CEF7-B07E-46D5-A1D8-148C1499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78ADB-5C4F-437D-89BB-64C87AF1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7282C-384D-48CA-BC76-F4D4469B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A3C91-74CB-445E-A723-D2CC9353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AABE1-4709-49E2-B1E7-AFC7F619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4495B-FF30-4F84-A367-2F0EF1D0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3F4A7-5D71-484E-A6CB-0BEB8DCF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D9F7E-C615-468E-8108-FCFC19D9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C9F-2AE7-4241-BF69-66518A09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77B1B-7518-47F2-AD1C-A7947FC3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2D619-B8F6-45D8-A0FF-A7DB5EC7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8475C-BFE9-4B2B-9D38-C48F8FA5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9AE4C-F5AE-4B61-82CA-FF1FE8B0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DCC73-D7EF-4314-BB95-CD389DAA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A0FB-6DC5-45E8-96F6-5568953A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A0A0A-E534-4DE6-B691-12BA98B64F0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CB016-20DA-42B8-A9BC-3CAFE5551A4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55F134-CFE9-43DC-966B-21DDAFB06F78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FBC28-0B66-4BF8-B1DF-32B56214DC8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6EC5D-F19A-477D-A500-84EFC9A88FD2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4E682-3C47-4A04-A8C9-3D5A8C4F154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51A78A-D492-47FC-98E4-074826516C02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9871A-39F9-47B4-84A2-D62CDD0A423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F2F96-3FAE-40F0-B7D1-B9E9C28B984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42A68-1AFC-4B08-9CE9-9621738FC62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7343D-E753-4545-8954-F81E46399280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002E8-DD76-4AD6-846F-2C7514F3E7D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C892F-C6F9-47FB-A5C9-237F1139E97C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EF7A7-F249-45DD-B412-DA0910165B9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19814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elipe and Alvaro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is it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cid deposition is any combination of airborne dry acidic particles and precipitation that falls to the ear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t occurs in forms such as rain, snow, mist, and fo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_x0016_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 rot="402600">
            <a:off x="1218960" y="3902040"/>
            <a:ext cx="37656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w does it form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wo of the main sources of acid deposition are natural emissions and anthropogenic (refers to industrial emissions and other man-made polluters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n nitric and sulfuric acids are released into the atmosphere by smokestacks, fuel combustion, or natural causes, they mix with water vapor at unusual proportions to cause acid deposi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aus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atural causes include volcano emissions, lightning, and microbial process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itric and sulfuric acids are released into the atmosphere by smokestacks, fuel combustion, or natural causes, they mix with water vapor at unusual proportions to cause acid deposition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ffec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water, acid deposition mutates and kills fis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cids can leach heavy metals in the water and release harmful metals into the aquatic environm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kes and rivers become lifeless due to the effects of acid deposit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could be done?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lternative power pla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ducing the consumption of energ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al washing ( removing sulphur before burning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uel switch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59:11Z</dcterms:created>
  <dc:creator>Felipe Salaverria</dc:creator>
  <dc:description/>
  <dc:language>en-US</dc:language>
  <cp:lastModifiedBy>Felipe Salaverria</cp:lastModifiedBy>
  <dcterms:modified xsi:type="dcterms:W3CDTF">2009-12-16T12:37:59Z</dcterms:modified>
  <cp:revision>12</cp:revision>
  <dc:subject/>
  <dc:title>Acid deposition</dc:title>
</cp:coreProperties>
</file>