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43F2-424D-44E6-9485-E6FA91DA3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D508-9DE9-4DD6-8088-508B089E0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A970-74DE-408E-A817-8A08A6F9B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4B80-2D6D-4CB6-80FE-F4140DF73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11849-9267-45DA-ADE7-2AB94BFB8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D3DF2-C0BE-4ED8-9CBB-5D12E869E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077E9-AB64-44D1-9DA3-AD27CB6E3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5F01C-76E7-4A7E-A14E-9D44B68F7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B65DE-755C-4319-BF41-D38CA62EE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94537-A6BB-43FD-B0D7-7C8781EFA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6B1BB-F3B2-45C5-96C4-277751389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C157-0AF4-4027-AD92-F9F742FB2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A4451-BAB2-4244-953D-CAF123245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D56C4-7B4E-4069-838E-F9C2372D1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81A0A-B0CB-4C98-83D0-E244BA19E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BD068-C10C-424A-BACE-EC4BD3040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2D07D-C063-4C5B-95B6-A4B56AF9B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3F7A1-A055-4509-ABC6-E9C6A9799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6698A-D0CF-4A0F-8092-37C5648B2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90188-3B81-48F6-9763-E8434CDA9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0C7FD-F3F0-4A08-A617-EFF088AF2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09900-C8C4-4FB4-92C8-5FCE9F940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25FC-0742-4CB0-ACC7-1002F6010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631FF-B1BB-4080-8EF2-14E3A61A5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5F6AB-7BC6-4486-A786-338D4642F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05BFA-88C6-4ADA-9360-DF7F9A966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5001E-2A20-497C-A31A-52309C988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13C9A-2CA7-444C-A053-4C608EFA4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254AB-689D-4108-BA9E-DDAD76FF5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4AE6E-2265-46E8-B7EB-18115F247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3DF2F-9EFB-4B59-9886-C4BE51A07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6819A-6CB0-43B8-AA45-1CED5BEC6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BE882-4A81-4850-A8B3-B31375F57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6A38-0F28-468B-8475-F7FEE8925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2582D-702F-4D75-BFD7-F11D1F5E5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157FC-4B05-47A5-9CCE-CE4619708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FD050-591C-4160-A41C-F34B8A71F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42344-AAB1-460F-8F43-9578BDB7A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98D37-6072-4360-B61D-D617B178B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6E990-9298-47B5-982A-B04D1636D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16954-81F5-4704-A3F6-A211402BE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AC05A-529F-4F7C-89BF-982736F14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54C90-9308-4D30-A7A6-11704FE94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5345A1-B290-47C6-9FAF-8E63E4CCA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355C-E9F0-487C-B071-0B8019533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203460-61AC-4E03-A10B-2560041BE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E891CE-BE25-407C-885C-864D9873D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55A3F8-3AA5-4F62-841C-9D89DF64B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60C085-1C0A-46DA-838E-3513B2563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3DD855-EAF9-4C27-B975-2F673F088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CC423D-A38A-4DE8-A473-B1E7B85CD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E64C9E-66AB-4A46-B070-156A2E96F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B74184-13FE-42AC-AA18-31233B04A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88930C-2633-4105-876F-9379B2D0F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6AB1B6-EFE9-4311-9876-BE1053F58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E3F5-FE48-4CFF-987C-09317A1BF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BBF858-C303-4D02-90D6-B02831A22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BA7635-0AC8-4496-9CFD-7249C1A8E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A4C7C6-AC4D-4B90-8C44-4AF433B44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B61C57-ECF9-4B91-A9C2-5388FA749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ACC089-75AB-4277-B098-F44D2083C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3AF737-B65D-4BC8-B79D-FD81FB556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3567AE-EA44-48ED-A92E-8684BEEB0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781616-7704-4C38-82DA-10A3E19FE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C1E4AA-F18E-4216-8333-FDF3D1B58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44C1B1-2D90-43E2-B95E-9EB89FBBD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E711-EE0C-4C88-8A3B-1D14C78C5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EA40B2-9F02-49C9-B8D6-C8C64A0F5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1BF463-A186-40E9-8555-905A59A9D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CDB1A6-A202-433A-A793-BD2B3D8B5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670C9F-F120-4E5D-8A41-19684E1EE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C16B2B-55C5-4E82-B142-25B978FB8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A042A7-2745-4047-9832-CCECF04F3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36206E-2561-4A23-B467-412C6F3F2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BC3C4D-2F95-4131-A32B-B15324D24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30EA52-BD38-47D9-8B80-304262293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9866A4-42E7-4956-93E3-3C0F19245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5F23-3E5D-42F7-B001-C105F6CC4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32CDF1-327A-4DCD-B505-0C64864AD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B8C206-4624-4E0B-989E-EAFF91265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F03C81-5F2C-47CF-A6A4-5006162EF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724A3C-0313-4D3E-8111-645942CDC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6161CC-61D4-40FE-9DF3-D7325025F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382D-FB0F-4F0D-910E-B9229EC85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0AC4C0-1D61-4EEF-9922-23EDE21F044F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2AAC42-99A4-4E7D-A1C8-70ABE1644D87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DD7588-71B7-4F1A-9F15-E3C94A167373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C6C161-56F5-471A-94FC-267380065D43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0A36F2-CE26-4330-BCD7-9E6927AE8E1C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222619-B416-44F1-9775-DA82A08A2CCB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7A6E32-CE04-44A8-90A7-632A9F8B2223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226044-F725-4DB7-B74F-5558FA156D72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C17A0C-1DD8-4E16-B465-0DBD425C4254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122DBA-039C-4066-8D2C-25324F901E68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710171-FAEA-4FB3-A234-21BACB2D88DD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687126-1822-4089-A4F4-EC907B36257E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Straight Connector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Straight Connector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Straight Connector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A27B8F-5125-422B-B753-EB896C12D38F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7A8BE5-FAC1-4A83-ABFD-B1CBDF874DB0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Title 1" descr=""/>
          <p:cNvPicPr/>
          <p:nvPr/>
        </p:nvPicPr>
        <p:blipFill>
          <a:blip r:embed="rId1"/>
          <a:stretch/>
        </p:blipFill>
        <p:spPr>
          <a:xfrm>
            <a:off x="907920" y="4340160"/>
            <a:ext cx="7785360" cy="198144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rIns="900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Felipe and Alvaro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What is it?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cid deposition is any combination of airborne dry acidic particles and precipitation that falls to the earth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t occurs in forms such as rain, snow, mist, and fog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_x0016_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2" name="Picture 3" descr=""/>
          <p:cNvPicPr/>
          <p:nvPr/>
        </p:nvPicPr>
        <p:blipFill>
          <a:blip r:embed="rId1"/>
          <a:stretch/>
        </p:blipFill>
        <p:spPr>
          <a:xfrm rot="402600">
            <a:off x="1218960" y="3902040"/>
            <a:ext cx="376560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How does it form?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82320" indent="-3186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wo of the main sources of acid deposition are natural emissions and anthropogenic (refers to industrial emissions and other man-made polluters)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When nitric and sulfuric acids are released into the atmosphere by smokestacks, fuel combustion, or natural causes, they mix with water vapor at unusual proportions to cause acid depositio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ause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Natural causes include volcano emissions, lightning, and microbial processes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nitric and sulfuric acids are released into the atmosphere by smokestacks, fuel combustion, or natural causes, they mix with water vapor at unusual proportions to cause acid deposition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Effect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n water, acid deposition mutates and kills fish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cids can leach heavy metals in the water and release harmful metals into the aquatic environmen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akes and rivers become lifeless due to the effects of acid deposition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What could be done?</a:t>
            </a:r>
            <a:br>
              <a:rPr sz="4000"/>
            </a:b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lternative power plant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Reducing the consumption of energ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oal washing ( removing sulphur before burning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uel switching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13:59:11Z</dcterms:created>
  <dc:creator>Felipe Salaverria</dc:creator>
  <dc:description/>
  <dc:language>en-US</dc:language>
  <cp:lastModifiedBy>Felipe Salaverria</cp:lastModifiedBy>
  <dcterms:modified xsi:type="dcterms:W3CDTF">2009-12-16T12:37:59Z</dcterms:modified>
  <cp:revision>12</cp:revision>
  <dc:subject/>
  <dc:title>Acid deposition</dc:title>
</cp:coreProperties>
</file>