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C36-1F13-4876-9404-49D4E324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065-DD41-4F3E-AEB2-14D38AE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64D-1464-4E77-A2DB-F0A6144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DAE-1348-4074-A69C-2178473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B2BD-263C-4843-BC98-0D8CF423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675-D50E-45DC-9DB2-691A119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22F9-4D7D-4AA8-9F8F-9522626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BDA-E1CF-4522-96CA-4B3F16A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527E-50A4-4687-9E57-CB18E4D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D740-BEC6-4194-8EF1-934E42A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4B4E-402F-4CFE-928F-CB24134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9F2-77EA-4F52-B4B0-A27DA98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15F2-750D-4222-8370-2DAC4FD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FFA-C07F-4A44-B90E-DAF10D80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735-1232-4C49-AFE9-D0C19CD9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AA0B-B383-45BF-8262-488337B6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612-9A56-43C1-95EB-615DDD38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AE5E-979B-4735-864A-9211A630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9DC1-6A48-423B-9AB3-AAA0A171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5134-2233-4DD1-9E16-7487AF5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5BD4-6BC9-4666-89BC-708CE8B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F2C9-88A0-4D20-AF14-5B4B25E3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01B-ABCA-4D3D-A780-8FFD5FC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19D3-776E-454F-BAAB-B31425FB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A565-57BB-4E38-95E1-BEF13F1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4F8D-273F-4198-9BC3-55D7A99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6CFB-B62A-4BC9-B1C7-7F09420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714C-9FC5-431D-B16D-D988C1A5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7124-B56A-4997-B594-EC130AEE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D85D-18C9-4437-8CF5-9168A6F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D430-FC87-4741-90B8-1F1FB82D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8D2A-8F2F-4CB5-A37B-23C4774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0AE9-3AF8-49E7-A1C7-468FE76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CCC-31AA-4767-A780-66672EE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97AE-FA14-43F2-9701-68E4293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CAB5-ED1A-4118-9B29-0F899D43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18D1-AC55-4292-80A0-5D39FBE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0B4B-BC82-430E-9D70-215937B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B193-87BF-4516-BBF8-808554B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2469-0712-4E6F-A95C-3625E55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0FDD-4EED-44EF-80CB-CF325152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C2F0-1070-4BE1-B24C-CD38FBA3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60F25-9B23-4BE9-AA8E-0D845198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85EE-AF31-4E5C-9927-4EBA3F97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858-E292-40BC-A29F-1BB8363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4B8C-E1FE-4E72-B584-986514A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CB37-795E-4A1A-95F8-6486B0A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0356-7F4D-4DF3-AC15-4B3B81B2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1776-F8BE-4D58-81F0-87BE5783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D2415-B89F-49B3-B0B0-FC15BA29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49F7-E849-4AAE-9C89-2400F50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FDFC-0A1B-4921-A6E3-88E6081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0E5A-C9E5-4083-B2E1-A6B7089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B744-02E3-4B4F-A41E-62E8647F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23C7-B798-48AD-A471-882D022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2F6-E9EE-4CE9-882D-A9CDCFA6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668C-2A44-4E40-B59A-FE447EBE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370A-DCDA-4AF0-BC66-BA3C55C9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9253-4CF9-40C1-95E3-3DC4D81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5C1D-C9B3-4A24-BAC3-0E75F296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981F-3A6A-4CB3-BA35-4763431C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4BEA-1505-4252-A2AA-84E2300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1BA8-F12C-4AC9-B898-FAB41F9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3322-185F-446A-878F-EE9785D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A2D3-DE28-46EB-9CCA-3C9EF02E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E97B-AB2C-4F44-9E8A-FBD4DB7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B71-8231-4FB5-90B5-3E9FE104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6A28-67FF-4675-84CC-44DC9F7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03CA-4856-41B5-8854-F2759C0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B475-55FC-4593-BF0A-76A93234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9D65-84F3-4482-AD7F-593BA672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AAB9-9081-45AD-A8BE-7C952201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BC06-A89C-45B9-9DBD-087423B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0381-5116-432B-89B0-3FA4CD3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884E-242B-41C0-AEC6-DA7FCDF0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AF27-0A11-4383-9F5D-AD95F08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41BCA-6E94-44EB-81E9-05B4B44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EA4-D2A0-4DD4-86CF-A59D1CA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7497-3125-4357-B584-DF4B190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9341-C410-427F-9E53-FBEAC99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5ECB-B4FD-4C24-8913-53E1399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98F6-093C-49A5-8B21-D6CDCDB0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19228-98B6-4B81-B667-EC2925B3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E91-AF03-4312-8E6D-42DD3E5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82F0-7F28-4F6A-8970-5475BC6E6F5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FA25E-C51B-4907-BEE3-6F9DFDDD86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A42BE-5095-4F9D-BDA6-C152A0A4EFF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F4A20-0E7B-444D-9862-D05AF2BBBC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7ECA8-38F0-42FA-83FA-6A64E995CBA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33210-95E0-478F-83AC-1C1B23E3F8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00878-D942-4FF3-AD0A-CC8BA37A0C2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AE383-F00B-42A1-A5F8-CCB8A8B12A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3423-7EE2-49D1-82FF-E0A672F4643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E4586-AE63-4F37-B14B-F386D16432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E7C9A-45CB-4B26-A94C-394EC9B34BE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17642-F6CC-482C-8FE1-750BDE6092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46F0F-4BF9-4667-A709-22DE425AC73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C7C1D-8458-42F0-8CB8-73EA2D11C3F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elipe and Alvar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 deposition is any combination of airborne dry acidic particles and precipitation that falls to the ear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occurs in forms such as rain, snow, mist, and fo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_x0016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 rot="402600">
            <a:off x="1218960" y="3902040"/>
            <a:ext cx="3765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es it 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wo of the main sources of acid deposition are natural emissions and anthropogenic (refers to industrial emissions and other man-made polluter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nitric and sulfuric acids are released into the atmosphere by smokestacks, fuel combustion, or natural causes, they mix with water vapor at unusual proportions to cause acid deposi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u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causes include volcano emissions, lightning, and microbial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itric and sulfuric acids are released into the atmosphere by smokestacks, fuel combustion, or natural causes, they mix with water vapor at unusual proportions to cause acid deposi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ffe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water, acid deposition mutates and kills fis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ids can leach heavy metals in the water and release harmful metals into the aquatic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kes and rivers become lifeless due to the effects of acid deposi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could be done?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ternative power pla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ducing the consump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al washing ( removing sulphur before burning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el swit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9:11Z</dcterms:created>
  <dc:creator>Felipe Salaverria</dc:creator>
  <dc:description/>
  <dc:language>en-US</dc:language>
  <cp:lastModifiedBy>Felipe Salaverria</cp:lastModifiedBy>
  <dcterms:modified xsi:type="dcterms:W3CDTF">2009-12-16T12:37:59Z</dcterms:modified>
  <cp:revision>12</cp:revision>
  <dc:subject/>
  <dc:title>Acid deposition</dc:title>
</cp:coreProperties>
</file>