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FCD8-0424-4BBC-A46E-D662386F625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EE46-BA3A-40A7-8C77-34610601BB8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DB4E-8649-46B1-8B62-4CD423DC5AF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108B-66AD-48C0-A16E-9F76F0C360C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156A-EAF9-4BD6-9A6F-4729EB2C7B5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2820-3802-44B2-8D8B-9606FEC89E5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5289-4881-4B2B-9150-5803AB21EDD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DAAB-6052-44E7-9B9F-597005FF69F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674E-E185-4893-A11C-5126D8EB8A1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3D3-4DBF-4DB2-9C25-6DEB8919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75E-A88D-4149-A0FC-28C79A6C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667-337E-4466-9D5B-9D1A4E7F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149-7AB9-4FEE-BF5E-EC7C4BAC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250-92A0-44C7-BF85-B17D2373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430-A236-405B-A614-A683AD72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812-54FF-422C-BF69-47B34D93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F59-A244-4C57-BE0F-1E3F4860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7F53-04BA-4EE3-8CFD-DD87A7FD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8FA-B7D8-4D2E-B081-866FD6AD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1EC-C359-4AF0-9692-792FA149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DAA-2366-4725-A0CA-678CDB5F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0FD3-EF40-4EE4-9DB1-8BD8D55CF107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6ee16"/>
                </a:solidFill>
                <a:latin typeface="Snap ITC"/>
              </a:rPr>
              <a:t>Strategies to reduce acid deposition and the success so far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Daisy Cen &amp; Fátima Domíng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How do we reduce poll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p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gul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st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ight Arrow 3"/>
          <p:cNvSpPr/>
          <p:nvPr/>
        </p:nvSpPr>
        <p:spPr>
          <a:xfrm>
            <a:off x="3071880" y="2071800"/>
            <a:ext cx="2286000" cy="5713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5"/>
          <p:cNvSpPr/>
          <p:nvPr/>
        </p:nvSpPr>
        <p:spPr>
          <a:xfrm>
            <a:off x="3143160" y="3500280"/>
            <a:ext cx="2286000" cy="5716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6"/>
          <p:cNvSpPr/>
          <p:nvPr/>
        </p:nvSpPr>
        <p:spPr>
          <a:xfrm>
            <a:off x="3071880" y="5072040"/>
            <a:ext cx="2286000" cy="5716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images.google.com.sv/url?source=imgres&amp;ct=tbn&amp;q=http://eloisaozonas.files.wordpress.com/2007/07/plastic-bag.jpg&amp;usg=AFQjCNFiK5u_A_bf1afkzbEu8bUZi67NQQ"/>
          <p:cNvPicPr/>
          <p:nvPr/>
        </p:nvPicPr>
        <p:blipFill>
          <a:blip r:embed="rId2"/>
          <a:stretch/>
        </p:blipFill>
        <p:spPr>
          <a:xfrm>
            <a:off x="5602320" y="1176480"/>
            <a:ext cx="1584360" cy="158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images.google.com.sv/url?source=imgres&amp;ct=tbn&amp;q=http://www.smart-kit.com/wp-content/uploads/2007/02/balance-scale-redone.jpg&amp;usg=AFQjCNHJubW38m7YLk1BcK-gkVlFkCHy7g"/>
          <p:cNvPicPr/>
          <p:nvPr/>
        </p:nvPicPr>
        <p:blipFill>
          <a:blip r:embed="rId3"/>
          <a:stretch/>
        </p:blipFill>
        <p:spPr>
          <a:xfrm>
            <a:off x="5715000" y="2857680"/>
            <a:ext cx="1224000" cy="1450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7" name="Picture 11" descr="http://images.google.com.sv/url?source=imgres&amp;ct=tbn&amp;q=http://www.istockphoto.com/file_thumbview_approve/153645/2/istockphoto_153645-baby-plant-a-new-life.jpg&amp;usg=AFQjCNG2cKAhz4DA7lCnsuYOI85cOrsTOw"/>
          <p:cNvPicPr/>
          <p:nvPr/>
        </p:nvPicPr>
        <p:blipFill>
          <a:blip r:embed="rId4"/>
          <a:stretch/>
        </p:blipFill>
        <p:spPr>
          <a:xfrm>
            <a:off x="5456160" y="4529160"/>
            <a:ext cx="18525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Baby Kruffy"/>
              </a:rPr>
              <a:t>Altering Human Activity Producing Pol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214280"/>
            <a:ext cx="8218440" cy="300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Forte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Using renew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Reduce demands for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Use car p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Treating sulfur before rel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324000" y="4581360"/>
            <a:ext cx="8569080" cy="2016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800080"/>
                </a:solidFill>
                <a:uFillTx/>
                <a:latin typeface="Jenkins v2.0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800080"/>
                </a:solidFill>
                <a:latin typeface="Jenkins v2.0"/>
              </a:rPr>
              <a:t>Most  countries depend upon fossil fuels as source of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800080"/>
                </a:solidFill>
                <a:latin typeface="Jenkins v2.0"/>
              </a:rPr>
              <a:t>Demand for power is increasing on industrialized countries</a:t>
            </a:r>
            <a:r>
              <a:rPr b="0" lang="es-MX" sz="2400" spc="-1" strike="noStrike">
                <a:solidFill>
                  <a:srgbClr val="800080"/>
                </a:solidFill>
                <a:latin typeface="Jenkins v2.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u29133072"/>
          <p:cNvPicPr/>
          <p:nvPr/>
        </p:nvPicPr>
        <p:blipFill>
          <a:blip r:embed="rId1"/>
          <a:stretch/>
        </p:blipFill>
        <p:spPr>
          <a:xfrm>
            <a:off x="5724360" y="1268280"/>
            <a:ext cx="1729080" cy="17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O2pollution"/>
          <p:cNvPicPr/>
          <p:nvPr/>
        </p:nvPicPr>
        <p:blipFill>
          <a:blip r:embed="rId2"/>
          <a:stretch/>
        </p:blipFill>
        <p:spPr>
          <a:xfrm>
            <a:off x="7093080" y="3284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Forte"/>
              </a:rPr>
              <a:t>Regulating and reducing pollutants at the point of emission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8218440" cy="2405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oornut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ornut"/>
              </a:rPr>
              <a:t>Clean up places which contain emissions of sulfur diox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ornut"/>
              </a:rPr>
              <a:t>Use catalytic converters to neutralize dangerous elements b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3924360" y="5300640"/>
            <a:ext cx="5041800" cy="132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nu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Catalyser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oornut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aulthurst41_chimney_cleaning_brush"/>
          <p:cNvPicPr/>
          <p:nvPr/>
        </p:nvPicPr>
        <p:blipFill>
          <a:blip r:embed="rId1"/>
          <a:stretch/>
        </p:blipFill>
        <p:spPr>
          <a:xfrm>
            <a:off x="684360" y="4149720"/>
            <a:ext cx="2743200" cy="250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recycle"/>
          <p:cNvPicPr/>
          <p:nvPr/>
        </p:nvPicPr>
        <p:blipFill>
          <a:blip r:embed="rId2"/>
          <a:stretch/>
        </p:blipFill>
        <p:spPr>
          <a:xfrm>
            <a:off x="370836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recycle"/>
          <p:cNvPicPr/>
          <p:nvPr/>
        </p:nvPicPr>
        <p:blipFill>
          <a:blip r:embed="rId3"/>
          <a:stretch/>
        </p:blipFill>
        <p:spPr>
          <a:xfrm>
            <a:off x="471636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recycle"/>
          <p:cNvPicPr/>
          <p:nvPr/>
        </p:nvPicPr>
        <p:blipFill>
          <a:blip r:embed="rId4"/>
          <a:stretch/>
        </p:blipFill>
        <p:spPr>
          <a:xfrm>
            <a:off x="579600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recycle"/>
          <p:cNvPicPr/>
          <p:nvPr/>
        </p:nvPicPr>
        <p:blipFill>
          <a:blip r:embed="rId5"/>
          <a:stretch/>
        </p:blipFill>
        <p:spPr>
          <a:xfrm>
            <a:off x="680400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recycle"/>
          <p:cNvPicPr/>
          <p:nvPr/>
        </p:nvPicPr>
        <p:blipFill>
          <a:blip r:embed="rId6"/>
          <a:stretch/>
        </p:blipFill>
        <p:spPr>
          <a:xfrm>
            <a:off x="7812000" y="4221000"/>
            <a:ext cx="8413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aby Kruffy"/>
              </a:rPr>
              <a:t>Clean-up and rest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8218440" cy="211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ffffff"/>
                </a:solidFill>
                <a:latin typeface="Poornut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Adding powdered limestone to rivers and l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Liming forestry plant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Internation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468360" y="4005360"/>
            <a:ext cx="8424720" cy="26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nu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Costs on repeating treatment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Affects biodiversity in other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Does not treat the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Agreements are difficult to establish and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arnoriverwaterplantson.jpg"/>
          <p:cNvPicPr/>
          <p:nvPr/>
        </p:nvPicPr>
        <p:blipFill>
          <a:blip r:embed="rId1"/>
          <a:stretch/>
        </p:blipFill>
        <p:spPr>
          <a:xfrm>
            <a:off x="6227640" y="2852640"/>
            <a:ext cx="2548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28880" y="0"/>
            <a:ext cx="150012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2071800"/>
            <a:ext cx="9144000" cy="1500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haroni"/>
                <a:ea typeface="Aharoni"/>
              </a:rPr>
              <a:t>Case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 the 1950s there was a great loss of invertebrate fish in Scandinavian lak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The problem was linked to high levels of acidity levels in lak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 1990 over 400 lakes were lifel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Sweden experimented adding powdered limestone to their lakes and riv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However this method only treats symptoms and not the cau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Biodiversity was not inmediately rest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886280" y="0"/>
            <a:ext cx="4257720" cy="3629160"/>
            <a:chOff x="4886280" y="0"/>
            <a:chExt cx="4257720" cy="3629160"/>
          </a:xfrm>
        </p:grpSpPr>
        <p:sp>
          <p:nvSpPr>
            <p:cNvPr id="81" name="Gear"/>
            <p:cNvSpPr/>
            <p:nvPr/>
          </p:nvSpPr>
          <p:spPr>
            <a:xfrm>
              <a:off x="7246800" y="0"/>
              <a:ext cx="1897200" cy="166392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920"/>
                <a:gd name="textAreaBottom" fmla="*/ 1359360 h 16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4"/>
            <p:cNvSpPr/>
            <p:nvPr/>
          </p:nvSpPr>
          <p:spPr>
            <a:xfrm>
              <a:off x="4886280" y="685800"/>
              <a:ext cx="2268360" cy="198936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360"/>
                <a:gd name="textAreaBottom" fmla="*/ 1624320 h 19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6357600" y="1419480"/>
              <a:ext cx="2521080" cy="220968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680"/>
                <a:gd name="textAreaBottom" fmla="*/ 18036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Techniques to treat sit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o reduce emission of sulfur dioxide and nitrogen oxides by removing sulfur from fuel before combus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Reduce the need for electricity and c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evelop more efficient c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Biologica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nd of pipe measures”- remove sulfur dioxide and nitrogen oxides from the waste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000000"/>
                </a:solidFill>
                <a:latin typeface="Aharoni"/>
                <a:ea typeface="Aharoni"/>
              </a:rPr>
              <a:t>Success so far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Diagram 3" descr=""/>
          <p:cNvPicPr/>
          <p:nvPr/>
        </p:nvPicPr>
        <p:blipFill>
          <a:blip r:embed="rId1"/>
          <a:stretch/>
        </p:blipFill>
        <p:spPr>
          <a:xfrm>
            <a:off x="1279440" y="1341360"/>
            <a:ext cx="6846840" cy="506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Program Files\Microsoft Office\MEDIA\CAGCAT10\j0157763.wmf"/>
          <p:cNvPicPr/>
          <p:nvPr/>
        </p:nvPicPr>
        <p:blipFill>
          <a:blip r:embed="rId2"/>
          <a:stretch/>
        </p:blipFill>
        <p:spPr>
          <a:xfrm>
            <a:off x="428760" y="450072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Program Files\Microsoft Office\MEDIA\CAGCAT10\j0285360.wmf"/>
          <p:cNvPicPr/>
          <p:nvPr/>
        </p:nvPicPr>
        <p:blipFill>
          <a:blip r:embed="rId3"/>
          <a:stretch/>
        </p:blipFill>
        <p:spPr>
          <a:xfrm>
            <a:off x="7286760" y="4500720"/>
            <a:ext cx="15904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5:12:40Z</dcterms:created>
  <dc:creator>Fatima Dominguez</dc:creator>
  <dc:description/>
  <dc:language>en-US</dc:language>
  <cp:lastModifiedBy>Fatima Dominguez</cp:lastModifiedBy>
  <dcterms:modified xsi:type="dcterms:W3CDTF">2009-12-15T04:32:14Z</dcterms:modified>
  <cp:revision>19</cp:revision>
  <dc:subject/>
  <dc:title>Strategy for reducing pollution</dc:title>
</cp:coreProperties>
</file>