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6D74-8DD8-410D-B781-29872C89778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FE14-D00D-4A9C-9E59-5DF8889AB21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75B0-8597-47E9-BEB0-91345393991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2447-3E9F-4F76-8ECE-E6DF255D902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0811-B192-4B9B-9EE8-2BB8BB37B3B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140B-FB52-44AE-87C7-E7F2D1D9798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7F97-7171-4D58-9311-415C5E444C5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93DC-7D8C-4933-9C2F-DAA1E8A8D49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2ADE-EFBC-4A9F-9A2D-76C59A17EE0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AAC-A984-469E-88A1-4861C9E4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A7F-B41D-45D3-BDB3-222B3300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72F-728D-4ECB-95EC-4511E33D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7EC-78E1-4AEE-BE50-4CCADBF7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245-EFFE-4DE7-8DE1-4E2BBA3D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381-E1C2-40B4-9C7C-17202054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319-3100-4CA3-9C25-CD2C4191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F26-D609-487D-96C5-BB906A70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D2D-B056-4AE5-A16A-652DDB44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517-C51A-44AB-85BD-61F470FF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C76B-ADC9-415F-B206-1D01FAC0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A49-50C6-4BCB-97B7-2F7B7748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7244-E54B-429B-9C1F-599F4DF3960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6ee16"/>
                </a:solidFill>
                <a:latin typeface="Snap ITC"/>
              </a:rPr>
              <a:t>Strategies to reduce acid deposition and the success so far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4642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Daisy Cen &amp; Fátima Domíngu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How do we reduce poll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pl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gula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Resto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ight Arrow 3"/>
          <p:cNvSpPr/>
          <p:nvPr/>
        </p:nvSpPr>
        <p:spPr>
          <a:xfrm>
            <a:off x="3071880" y="2071800"/>
            <a:ext cx="2286000" cy="5713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5"/>
          <p:cNvSpPr/>
          <p:nvPr/>
        </p:nvSpPr>
        <p:spPr>
          <a:xfrm>
            <a:off x="3143160" y="3500280"/>
            <a:ext cx="2286000" cy="57168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6"/>
          <p:cNvSpPr/>
          <p:nvPr/>
        </p:nvSpPr>
        <p:spPr>
          <a:xfrm>
            <a:off x="3071880" y="5072040"/>
            <a:ext cx="2286000" cy="57168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ttp://images.google.com.sv/url?source=imgres&amp;ct=tbn&amp;q=http://eloisaozonas.files.wordpress.com/2007/07/plastic-bag.jpg&amp;usg=AFQjCNFiK5u_A_bf1afkzbEu8bUZi67NQQ"/>
          <p:cNvPicPr/>
          <p:nvPr/>
        </p:nvPicPr>
        <p:blipFill>
          <a:blip r:embed="rId2"/>
          <a:stretch/>
        </p:blipFill>
        <p:spPr>
          <a:xfrm>
            <a:off x="5602320" y="1176480"/>
            <a:ext cx="1584360" cy="158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images.google.com.sv/url?source=imgres&amp;ct=tbn&amp;q=http://www.smart-kit.com/wp-content/uploads/2007/02/balance-scale-redone.jpg&amp;usg=AFQjCNHJubW38m7YLk1BcK-gkVlFkCHy7g"/>
          <p:cNvPicPr/>
          <p:nvPr/>
        </p:nvPicPr>
        <p:blipFill>
          <a:blip r:embed="rId3"/>
          <a:stretch/>
        </p:blipFill>
        <p:spPr>
          <a:xfrm>
            <a:off x="5715000" y="2857680"/>
            <a:ext cx="1224000" cy="1450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7" name="Picture 11" descr="http://images.google.com.sv/url?source=imgres&amp;ct=tbn&amp;q=http://www.istockphoto.com/file_thumbview_approve/153645/2/istockphoto_153645-baby-plant-a-new-life.jpg&amp;usg=AFQjCNG2cKAhz4DA7lCnsuYOI85cOrsTOw"/>
          <p:cNvPicPr/>
          <p:nvPr/>
        </p:nvPicPr>
        <p:blipFill>
          <a:blip r:embed="rId4"/>
          <a:stretch/>
        </p:blipFill>
        <p:spPr>
          <a:xfrm>
            <a:off x="5456160" y="4529160"/>
            <a:ext cx="18525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Baby Kruffy"/>
              </a:rPr>
              <a:t>Altering Human Activity Producing Pol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214280"/>
            <a:ext cx="8218440" cy="3006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Forte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Using renew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Reduce demands for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Use car p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Poornut"/>
              </a:rPr>
              <a:t>Treating sulfur before rel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324000" y="4581360"/>
            <a:ext cx="8569080" cy="2016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800080"/>
                </a:solidFill>
                <a:uFillTx/>
                <a:latin typeface="Jenkins v2.0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800080"/>
                </a:solidFill>
                <a:latin typeface="Jenkins v2.0"/>
              </a:rPr>
              <a:t>Most  countries depend upon fossil fuels as source of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800080"/>
                </a:solidFill>
                <a:latin typeface="Jenkins v2.0"/>
              </a:rPr>
              <a:t>Demand for power is increasing on industrialized countries</a:t>
            </a:r>
            <a:r>
              <a:rPr b="0" lang="es-MX" sz="2400" spc="-1" strike="noStrike">
                <a:solidFill>
                  <a:srgbClr val="800080"/>
                </a:solidFill>
                <a:latin typeface="Jenkins v2.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u29133072"/>
          <p:cNvPicPr/>
          <p:nvPr/>
        </p:nvPicPr>
        <p:blipFill>
          <a:blip r:embed="rId1"/>
          <a:stretch/>
        </p:blipFill>
        <p:spPr>
          <a:xfrm>
            <a:off x="5724360" y="1268280"/>
            <a:ext cx="1729080" cy="17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O2pollution"/>
          <p:cNvPicPr/>
          <p:nvPr/>
        </p:nvPicPr>
        <p:blipFill>
          <a:blip r:embed="rId2"/>
          <a:stretch/>
        </p:blipFill>
        <p:spPr>
          <a:xfrm>
            <a:off x="7093080" y="3284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Forte"/>
              </a:rPr>
              <a:t>Regulating and reducing pollutants at the point of emission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8218440" cy="2405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oornut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ornut"/>
              </a:rPr>
              <a:t>Clean up places which contain emissions of sulfur diox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ornut"/>
              </a:rPr>
              <a:t>Use catalytic converters to neutralize dangerous elements b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3924360" y="5300640"/>
            <a:ext cx="5041800" cy="132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nut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Catalyser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oornut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paulthurst41_chimney_cleaning_brush"/>
          <p:cNvPicPr/>
          <p:nvPr/>
        </p:nvPicPr>
        <p:blipFill>
          <a:blip r:embed="rId1"/>
          <a:stretch/>
        </p:blipFill>
        <p:spPr>
          <a:xfrm>
            <a:off x="684360" y="4149720"/>
            <a:ext cx="2743200" cy="250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recycle"/>
          <p:cNvPicPr/>
          <p:nvPr/>
        </p:nvPicPr>
        <p:blipFill>
          <a:blip r:embed="rId2"/>
          <a:stretch/>
        </p:blipFill>
        <p:spPr>
          <a:xfrm>
            <a:off x="370836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recycle"/>
          <p:cNvPicPr/>
          <p:nvPr/>
        </p:nvPicPr>
        <p:blipFill>
          <a:blip r:embed="rId3"/>
          <a:stretch/>
        </p:blipFill>
        <p:spPr>
          <a:xfrm>
            <a:off x="471636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recycle"/>
          <p:cNvPicPr/>
          <p:nvPr/>
        </p:nvPicPr>
        <p:blipFill>
          <a:blip r:embed="rId4"/>
          <a:stretch/>
        </p:blipFill>
        <p:spPr>
          <a:xfrm>
            <a:off x="579600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recycle"/>
          <p:cNvPicPr/>
          <p:nvPr/>
        </p:nvPicPr>
        <p:blipFill>
          <a:blip r:embed="rId5"/>
          <a:stretch/>
        </p:blipFill>
        <p:spPr>
          <a:xfrm>
            <a:off x="6804000" y="4221000"/>
            <a:ext cx="841320" cy="81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recycle"/>
          <p:cNvPicPr/>
          <p:nvPr/>
        </p:nvPicPr>
        <p:blipFill>
          <a:blip r:embed="rId6"/>
          <a:stretch/>
        </p:blipFill>
        <p:spPr>
          <a:xfrm>
            <a:off x="7812000" y="4221000"/>
            <a:ext cx="8413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aby Kruffy"/>
              </a:rPr>
              <a:t>Clean-up and rest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8218440" cy="211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ffffff"/>
                </a:solidFill>
                <a:latin typeface="Poornut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Adding powdered limestone to rivers and l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Liming forestry plant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Poornut"/>
              </a:rPr>
              <a:t>International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468360" y="4005360"/>
            <a:ext cx="8424720" cy="26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nut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Costs on repeating treatment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Affects biodiversity in other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Does not treat the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nut"/>
              </a:rPr>
              <a:t>Agreements are difficult to establish and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arnoriverwaterplantson.jpg"/>
          <p:cNvPicPr/>
          <p:nvPr/>
        </p:nvPicPr>
        <p:blipFill>
          <a:blip r:embed="rId1"/>
          <a:stretch/>
        </p:blipFill>
        <p:spPr>
          <a:xfrm>
            <a:off x="6227640" y="2852640"/>
            <a:ext cx="2548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28880" y="0"/>
            <a:ext cx="1500120" cy="685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2071800"/>
            <a:ext cx="9144000" cy="1500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haroni"/>
                <a:ea typeface="Aharoni"/>
              </a:rPr>
              <a:t>Case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 the 1950s there was a great loss of invertebrate fish in Scandinavian lak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The problem was linked to high levels of acidity levels in lak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 1990 over 400 lakes were lifel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Sweden experimented adding powdered limestone to their lakes and riv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However this method only treats symptoms and not the cau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Biodiversity was not inmediately rest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4886280" y="0"/>
            <a:ext cx="4257720" cy="3629160"/>
            <a:chOff x="4886280" y="0"/>
            <a:chExt cx="4257720" cy="3629160"/>
          </a:xfrm>
        </p:grpSpPr>
        <p:sp>
          <p:nvSpPr>
            <p:cNvPr id="81" name="Gear"/>
            <p:cNvSpPr/>
            <p:nvPr/>
          </p:nvSpPr>
          <p:spPr>
            <a:xfrm>
              <a:off x="7246800" y="0"/>
              <a:ext cx="1897200" cy="1663920"/>
            </a:xfrm>
            <a:custGeom>
              <a:avLst/>
              <a:gdLst>
                <a:gd name="textAreaLeft" fmla="*/ 384120 w 1897200"/>
                <a:gd name="textAreaRight" fmla="*/ 1567080 w 1897200"/>
                <a:gd name="textAreaTop" fmla="*/ 304560 h 1663920"/>
                <a:gd name="textAreaBottom" fmla="*/ 1359360 h 166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4"/>
            <p:cNvSpPr/>
            <p:nvPr/>
          </p:nvSpPr>
          <p:spPr>
            <a:xfrm>
              <a:off x="4886280" y="685800"/>
              <a:ext cx="2268360" cy="1989360"/>
            </a:xfrm>
            <a:custGeom>
              <a:avLst/>
              <a:gdLst>
                <a:gd name="textAreaLeft" fmla="*/ 458640 w 2268360"/>
                <a:gd name="textAreaRight" fmla="*/ 1873080 w 2268360"/>
                <a:gd name="textAreaTop" fmla="*/ 365040 h 1989360"/>
                <a:gd name="textAreaBottom" fmla="*/ 1624320 h 19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6357600" y="1419480"/>
              <a:ext cx="2521080" cy="2209680"/>
            </a:xfrm>
            <a:custGeom>
              <a:avLst/>
              <a:gdLst>
                <a:gd name="textAreaLeft" fmla="*/ 511200 w 2521080"/>
                <a:gd name="textAreaRight" fmla="*/ 2082960 w 2521080"/>
                <a:gd name="textAreaTop" fmla="*/ 404640 h 2209680"/>
                <a:gd name="textAreaBottom" fmla="*/ 18036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Techniques to treat sit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o reduce emission of sulfur dioxide and nitrogen oxides by removing sulfur from fuel before combus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Reduce the need for electricity and c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evelop more efficient c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Biological fu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nd of pipe measures”- remove sulfur dioxide and nitrogen oxides from the waste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000000"/>
                </a:solidFill>
                <a:latin typeface="Aharoni"/>
                <a:ea typeface="Aharoni"/>
              </a:rPr>
              <a:t>Success so far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Diagram 3" descr=""/>
          <p:cNvPicPr/>
          <p:nvPr/>
        </p:nvPicPr>
        <p:blipFill>
          <a:blip r:embed="rId1"/>
          <a:stretch/>
        </p:blipFill>
        <p:spPr>
          <a:xfrm>
            <a:off x="1279440" y="1341360"/>
            <a:ext cx="6846840" cy="506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Program Files\Microsoft Office\MEDIA\CAGCAT10\j0157763.wmf"/>
          <p:cNvPicPr/>
          <p:nvPr/>
        </p:nvPicPr>
        <p:blipFill>
          <a:blip r:embed="rId2"/>
          <a:stretch/>
        </p:blipFill>
        <p:spPr>
          <a:xfrm>
            <a:off x="428760" y="450072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Program Files\Microsoft Office\MEDIA\CAGCAT10\j0285360.wmf"/>
          <p:cNvPicPr/>
          <p:nvPr/>
        </p:nvPicPr>
        <p:blipFill>
          <a:blip r:embed="rId3"/>
          <a:stretch/>
        </p:blipFill>
        <p:spPr>
          <a:xfrm>
            <a:off x="7286760" y="4500720"/>
            <a:ext cx="15904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5:12:40Z</dcterms:created>
  <dc:creator>Fatima Dominguez</dc:creator>
  <dc:description/>
  <dc:language>en-US</dc:language>
  <cp:lastModifiedBy>Fatima Dominguez</cp:lastModifiedBy>
  <dcterms:modified xsi:type="dcterms:W3CDTF">2009-12-15T04:32:14Z</dcterms:modified>
  <cp:revision>19</cp:revision>
  <dc:subject/>
  <dc:title>Strategy for reducing pollution</dc:title>
</cp:coreProperties>
</file>