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B0D-1D6E-4AE9-AC08-DD6B377D2C5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8BAF-DB66-44B1-B362-48CAC8B2154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6AEE-3428-4B10-B679-C3AE498C9F4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D611-3D70-499F-A1C8-062BCFD280B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CCBC-6045-4642-A63B-6B120FAD888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0FD9-A9AF-47CD-8790-E03F86F250B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857E-992D-45BC-AB54-5A4B03BE601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5F3D-BB89-494B-927B-BF89D68D7BD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9EC2-4305-474D-AD7F-545C9D08224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F58-F269-40E4-83C6-6E073D0C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5B5-10B2-48F7-B934-D7A3A081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216-6FD7-4AA9-A2E5-0A7CB6C6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AA2-5DE5-46FA-ADFD-DB8185DB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784-DB8C-45D3-BB49-34D262D0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31A-ECDE-43AE-8340-FD36722F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EAD-C201-4FDD-96F8-A04A67CA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A7E-0F84-417D-BBED-4A7C481B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4F2-CA26-4300-923E-B8D5659E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0EB-2EB3-4D8A-95C1-F2D4B23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088-2B80-4D22-8021-E12B0955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11D-ED8E-4769-BA4B-B8EB8232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24A1-444C-447A-9471-B39EB22C9F3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6ee16"/>
                </a:solidFill>
                <a:latin typeface="Snap ITC"/>
              </a:rPr>
              <a:t>Strategies to reduce acid deposition and the success so far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aisy Cen &amp; Fátima Domíng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How do we reduce pol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gul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st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3"/>
          <p:cNvSpPr/>
          <p:nvPr/>
        </p:nvSpPr>
        <p:spPr>
          <a:xfrm>
            <a:off x="3071880" y="2071800"/>
            <a:ext cx="2286000" cy="5713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5"/>
          <p:cNvSpPr/>
          <p:nvPr/>
        </p:nvSpPr>
        <p:spPr>
          <a:xfrm>
            <a:off x="3143160" y="350028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6"/>
          <p:cNvSpPr/>
          <p:nvPr/>
        </p:nvSpPr>
        <p:spPr>
          <a:xfrm>
            <a:off x="3071880" y="507204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ages.google.com.sv/url?source=imgres&amp;ct=tbn&amp;q=http://eloisaozonas.files.wordpress.com/2007/07/plastic-bag.jpg&amp;usg=AFQjCNFiK5u_A_bf1afkzbEu8bUZi67NQQ"/>
          <p:cNvPicPr/>
          <p:nvPr/>
        </p:nvPicPr>
        <p:blipFill>
          <a:blip r:embed="rId2"/>
          <a:stretch/>
        </p:blipFill>
        <p:spPr>
          <a:xfrm>
            <a:off x="5602320" y="1176480"/>
            <a:ext cx="1584360" cy="15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mages.google.com.sv/url?source=imgres&amp;ct=tbn&amp;q=http://www.smart-kit.com/wp-content/uploads/2007/02/balance-scale-redone.jpg&amp;usg=AFQjCNHJubW38m7YLk1BcK-gkVlFkCHy7g"/>
          <p:cNvPicPr/>
          <p:nvPr/>
        </p:nvPicPr>
        <p:blipFill>
          <a:blip r:embed="rId3"/>
          <a:stretch/>
        </p:blipFill>
        <p:spPr>
          <a:xfrm>
            <a:off x="5715000" y="2857680"/>
            <a:ext cx="1224000" cy="1450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7" name="Picture 11" descr="http://images.google.com.sv/url?source=imgres&amp;ct=tbn&amp;q=http://www.istockphoto.com/file_thumbview_approve/153645/2/istockphoto_153645-baby-plant-a-new-life.jpg&amp;usg=AFQjCNG2cKAhz4DA7lCnsuYOI85cOrsTOw"/>
          <p:cNvPicPr/>
          <p:nvPr/>
        </p:nvPicPr>
        <p:blipFill>
          <a:blip r:embed="rId4"/>
          <a:stretch/>
        </p:blipFill>
        <p:spPr>
          <a:xfrm>
            <a:off x="5456160" y="4529160"/>
            <a:ext cx="18525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Baby Kruffy"/>
              </a:rPr>
              <a:t>Altering Human Activity Producing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214280"/>
            <a:ext cx="8218440" cy="300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Forte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ing 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Reduce demands for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e car p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Treating sulfur before rel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324000" y="4581360"/>
            <a:ext cx="8569080" cy="201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800080"/>
                </a:solidFill>
                <a:uFillTx/>
                <a:latin typeface="Jenkins v2.0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Most  countries depend upon fossil fuels as source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Demand for power is increasing on industrialized countries</a:t>
            </a:r>
            <a:r>
              <a:rPr b="0" lang="es-MX" sz="2400" spc="-1" strike="noStrike">
                <a:solidFill>
                  <a:srgbClr val="800080"/>
                </a:solidFill>
                <a:latin typeface="Jenkins v2.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u29133072"/>
          <p:cNvPicPr/>
          <p:nvPr/>
        </p:nvPicPr>
        <p:blipFill>
          <a:blip r:embed="rId1"/>
          <a:stretch/>
        </p:blipFill>
        <p:spPr>
          <a:xfrm>
            <a:off x="5724360" y="126828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O2pollution"/>
          <p:cNvPicPr/>
          <p:nvPr/>
        </p:nvPicPr>
        <p:blipFill>
          <a:blip r:embed="rId2"/>
          <a:stretch/>
        </p:blipFill>
        <p:spPr>
          <a:xfrm>
            <a:off x="7093080" y="3284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Forte"/>
              </a:rPr>
              <a:t>Regulating and reducing pollutants at the point of emission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8218440" cy="2405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Clean up places which contain emissions of sulfur diox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Use catalytic converters to neutralize dangerous elements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3924360" y="5300640"/>
            <a:ext cx="50418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atalyser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oornut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aulthurst41_chimney_cleaning_brush"/>
          <p:cNvPicPr/>
          <p:nvPr/>
        </p:nvPicPr>
        <p:blipFill>
          <a:blip r:embed="rId1"/>
          <a:stretch/>
        </p:blipFill>
        <p:spPr>
          <a:xfrm>
            <a:off x="684360" y="4149720"/>
            <a:ext cx="2743200" cy="25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recycle"/>
          <p:cNvPicPr/>
          <p:nvPr/>
        </p:nvPicPr>
        <p:blipFill>
          <a:blip r:embed="rId2"/>
          <a:stretch/>
        </p:blipFill>
        <p:spPr>
          <a:xfrm>
            <a:off x="3708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recycle"/>
          <p:cNvPicPr/>
          <p:nvPr/>
        </p:nvPicPr>
        <p:blipFill>
          <a:blip r:embed="rId3"/>
          <a:stretch/>
        </p:blipFill>
        <p:spPr>
          <a:xfrm>
            <a:off x="4716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recycle"/>
          <p:cNvPicPr/>
          <p:nvPr/>
        </p:nvPicPr>
        <p:blipFill>
          <a:blip r:embed="rId4"/>
          <a:stretch/>
        </p:blipFill>
        <p:spPr>
          <a:xfrm>
            <a:off x="5796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recycle"/>
          <p:cNvPicPr/>
          <p:nvPr/>
        </p:nvPicPr>
        <p:blipFill>
          <a:blip r:embed="rId5"/>
          <a:stretch/>
        </p:blipFill>
        <p:spPr>
          <a:xfrm>
            <a:off x="6804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recycle"/>
          <p:cNvPicPr/>
          <p:nvPr/>
        </p:nvPicPr>
        <p:blipFill>
          <a:blip r:embed="rId6"/>
          <a:stretch/>
        </p:blipFill>
        <p:spPr>
          <a:xfrm>
            <a:off x="7812000" y="4221000"/>
            <a:ext cx="84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aby Kruffy"/>
              </a:rPr>
              <a:t>Clean-up and rest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8218440" cy="211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Adding powdered limestone to rivers and l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Liming forestry plan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Internation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468360" y="4005360"/>
            <a:ext cx="8424720" cy="26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osts on repeating treatment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ffects biodiversity in other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Does not treat the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greements are difficult to establish and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arnoriverwaterplantson.jpg"/>
          <p:cNvPicPr/>
          <p:nvPr/>
        </p:nvPicPr>
        <p:blipFill>
          <a:blip r:embed="rId1"/>
          <a:stretch/>
        </p:blipFill>
        <p:spPr>
          <a:xfrm>
            <a:off x="6227640" y="2852640"/>
            <a:ext cx="2548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28880" y="0"/>
            <a:ext cx="150012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2071800"/>
            <a:ext cx="9144000" cy="1500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haroni"/>
                <a:ea typeface="Aharoni"/>
              </a:rPr>
              <a:t>Case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the 1950s there was a great loss of invertebrate fish in Scandinavian lak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he problem was linked to high levels of acidity levels in lak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1990 over 400 lakes were lifel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Sweden experimented adding powdered limestone to their lakes and riv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However this method only treats symptoms and not the ca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Biodiversity was not inmediately re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886280" y="0"/>
            <a:ext cx="4257720" cy="3629160"/>
            <a:chOff x="4886280" y="0"/>
            <a:chExt cx="4257720" cy="3629160"/>
          </a:xfrm>
        </p:grpSpPr>
        <p:sp>
          <p:nvSpPr>
            <p:cNvPr id="81" name="Gear"/>
            <p:cNvSpPr/>
            <p:nvPr/>
          </p:nvSpPr>
          <p:spPr>
            <a:xfrm>
              <a:off x="7246800" y="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"/>
            <p:cNvSpPr/>
            <p:nvPr/>
          </p:nvSpPr>
          <p:spPr>
            <a:xfrm>
              <a:off x="4886280" y="68580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6357600" y="141948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Techniques to treat s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o reduce emission of sulfur dioxide and nitrogen oxides by removing sulfur from fuel before combus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Reduce the need for electricity and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evelop more efficient c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Biologica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nd of pipe measures”- remove sulfur dioxide and nitrogen oxides from the waste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000000"/>
                </a:solidFill>
                <a:latin typeface="Aharoni"/>
                <a:ea typeface="Aharoni"/>
              </a:rPr>
              <a:t>Success so far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Diagram 3" descr=""/>
          <p:cNvPicPr/>
          <p:nvPr/>
        </p:nvPicPr>
        <p:blipFill>
          <a:blip r:embed="rId1"/>
          <a:stretch/>
        </p:blipFill>
        <p:spPr>
          <a:xfrm>
            <a:off x="1279440" y="1341360"/>
            <a:ext cx="6846840" cy="506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Program Files\Microsoft Office\MEDIA\CAGCAT10\j0157763.wmf"/>
          <p:cNvPicPr/>
          <p:nvPr/>
        </p:nvPicPr>
        <p:blipFill>
          <a:blip r:embed="rId2"/>
          <a:stretch/>
        </p:blipFill>
        <p:spPr>
          <a:xfrm>
            <a:off x="428760" y="450072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Program Files\Microsoft Office\MEDIA\CAGCAT10\j0285360.wmf"/>
          <p:cNvPicPr/>
          <p:nvPr/>
        </p:nvPicPr>
        <p:blipFill>
          <a:blip r:embed="rId3"/>
          <a:stretch/>
        </p:blipFill>
        <p:spPr>
          <a:xfrm>
            <a:off x="7286760" y="4500720"/>
            <a:ext cx="1590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12:40Z</dcterms:created>
  <dc:creator>Fatima Dominguez</dc:creator>
  <dc:description/>
  <dc:language>en-US</dc:language>
  <cp:lastModifiedBy>Fatima Dominguez</cp:lastModifiedBy>
  <dcterms:modified xsi:type="dcterms:W3CDTF">2009-12-15T04:32:14Z</dcterms:modified>
  <cp:revision>19</cp:revision>
  <dc:subject/>
  <dc:title>Strategy for reducing pollution</dc:title>
</cp:coreProperties>
</file>