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3.wmf" ContentType="image/x-wm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6317-5C59-42A3-BDBD-42324375A84E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9B80-E9EC-4D97-A08C-E082E7265345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3804-369D-420C-9FAC-E69638171516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A005-308A-4762-9083-DDD31DD4D23E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FD3D-06C9-4961-A7CF-275C7CDCA2F2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8CDB-98FD-479C-A71A-6EDA1A850D4C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04DC-054F-42A8-892C-674A8AA108AC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9863-FA70-43A8-BD9E-B1FB09E63FE2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B41D-A93A-4B60-84BA-76D2325C95CD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CE6C-B429-43CA-B514-38D626DB6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17AB-7FE4-4F5E-8E2A-CAF49B10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5348-C140-45C6-BB92-505C85C1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FCF5-F4B1-4DF1-A3D5-36D27A814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5994-67A8-436B-9EF2-2DB1A1EF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7E3E-042A-4E4E-9331-F46691E8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2FAD-8AD3-47DD-A856-B51C44D4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9AFE-5887-404F-88FA-8FEDC05A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2C08-3132-4E1D-B3BA-FA2DFADE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A1AD-AF2F-40AF-9768-E98F86B0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0B32-3C2B-4338-9070-CFA79EB9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E08E-94A6-4B57-BEDB-E318627A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D137-FF52-4129-B9FC-05F5D7FEB75F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6ee16"/>
                </a:solidFill>
                <a:latin typeface="Snap ITC"/>
              </a:rPr>
              <a:t>Strategies to reduce acid deposition and the success so far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28840" y="4642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Calibri"/>
              </a:rPr>
              <a:t>Daisy Cen &amp; Fátima Domíngue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Calibri"/>
              </a:rPr>
              <a:t>How do we reduce pollu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Calibri"/>
              </a:rPr>
              <a:t>Repl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Calibri"/>
              </a:rPr>
              <a:t>Regula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Calibri"/>
              </a:rPr>
              <a:t>Resto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ight Arrow 3"/>
          <p:cNvSpPr/>
          <p:nvPr/>
        </p:nvSpPr>
        <p:spPr>
          <a:xfrm>
            <a:off x="3071880" y="2071800"/>
            <a:ext cx="2286000" cy="57132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ight Arrow 5"/>
          <p:cNvSpPr/>
          <p:nvPr/>
        </p:nvSpPr>
        <p:spPr>
          <a:xfrm>
            <a:off x="3143160" y="3500280"/>
            <a:ext cx="2286000" cy="57168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ight Arrow 6"/>
          <p:cNvSpPr/>
          <p:nvPr/>
        </p:nvSpPr>
        <p:spPr>
          <a:xfrm>
            <a:off x="3071880" y="5072040"/>
            <a:ext cx="2286000" cy="57168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http://images.google.com.sv/url?source=imgres&amp;ct=tbn&amp;q=http://eloisaozonas.files.wordpress.com/2007/07/plastic-bag.jpg&amp;usg=AFQjCNFiK5u_A_bf1afkzbEu8bUZi67NQQ"/>
          <p:cNvPicPr/>
          <p:nvPr/>
        </p:nvPicPr>
        <p:blipFill>
          <a:blip r:embed="rId2"/>
          <a:stretch/>
        </p:blipFill>
        <p:spPr>
          <a:xfrm>
            <a:off x="5602320" y="1176480"/>
            <a:ext cx="1584360" cy="1585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http://images.google.com.sv/url?source=imgres&amp;ct=tbn&amp;q=http://www.smart-kit.com/wp-content/uploads/2007/02/balance-scale-redone.jpg&amp;usg=AFQjCNHJubW38m7YLk1BcK-gkVlFkCHy7g"/>
          <p:cNvPicPr/>
          <p:nvPr/>
        </p:nvPicPr>
        <p:blipFill>
          <a:blip r:embed="rId3"/>
          <a:stretch/>
        </p:blipFill>
        <p:spPr>
          <a:xfrm>
            <a:off x="5715000" y="2857680"/>
            <a:ext cx="1224000" cy="1450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7" name="Picture 11" descr="http://images.google.com.sv/url?source=imgres&amp;ct=tbn&amp;q=http://www.istockphoto.com/file_thumbview_approve/153645/2/istockphoto_153645-baby-plant-a-new-life.jpg&amp;usg=AFQjCNG2cKAhz4DA7lCnsuYOI85cOrsTOw"/>
          <p:cNvPicPr/>
          <p:nvPr/>
        </p:nvPicPr>
        <p:blipFill>
          <a:blip r:embed="rId4"/>
          <a:stretch/>
        </p:blipFill>
        <p:spPr>
          <a:xfrm>
            <a:off x="5456160" y="4529160"/>
            <a:ext cx="185256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00"/>
                </a:solidFill>
                <a:latin typeface="Baby Kruffy"/>
              </a:rPr>
              <a:t>Altering Human Activity Producing Pol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214280"/>
            <a:ext cx="8218440" cy="3006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000000"/>
                </a:solidFill>
                <a:uFillTx/>
                <a:latin typeface="Forte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Poornut"/>
              </a:rPr>
              <a:t>Using renewable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Poornut"/>
              </a:rPr>
              <a:t>Reduce demands for electr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Poornut"/>
              </a:rPr>
              <a:t>Use car p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Poornut"/>
              </a:rPr>
              <a:t>Treating sulfur before relea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ontent Placeholder 2"/>
          <p:cNvSpPr/>
          <p:nvPr/>
        </p:nvSpPr>
        <p:spPr>
          <a:xfrm>
            <a:off x="324000" y="4581360"/>
            <a:ext cx="8569080" cy="2016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800080"/>
                </a:solidFill>
                <a:uFillTx/>
                <a:latin typeface="Jenkins v2.0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800080"/>
                </a:solidFill>
                <a:latin typeface="Jenkins v2.0"/>
              </a:rPr>
              <a:t>Most  countries depend upon fossil fuels as source of in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800080"/>
                </a:solidFill>
                <a:latin typeface="Jenkins v2.0"/>
              </a:rPr>
              <a:t>Demand for power is increasing on industrialized countries</a:t>
            </a:r>
            <a:r>
              <a:rPr b="0" lang="es-MX" sz="2400" spc="-1" strike="noStrike">
                <a:solidFill>
                  <a:srgbClr val="800080"/>
                </a:solidFill>
                <a:latin typeface="Jenkins v2.0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u29133072"/>
          <p:cNvPicPr/>
          <p:nvPr/>
        </p:nvPicPr>
        <p:blipFill>
          <a:blip r:embed="rId1"/>
          <a:stretch/>
        </p:blipFill>
        <p:spPr>
          <a:xfrm>
            <a:off x="5724360" y="1268280"/>
            <a:ext cx="1729080" cy="1729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CO2pollution"/>
          <p:cNvPicPr/>
          <p:nvPr/>
        </p:nvPicPr>
        <p:blipFill>
          <a:blip r:embed="rId2"/>
          <a:stretch/>
        </p:blipFill>
        <p:spPr>
          <a:xfrm>
            <a:off x="7093080" y="3284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Forte"/>
              </a:rPr>
              <a:t>Regulating and reducing pollutants at the point of emission</a:t>
            </a: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599840"/>
            <a:ext cx="8218440" cy="24051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oornut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oornut"/>
              </a:rPr>
              <a:t>Clean up places which contain emissions of sulfur diox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oornut"/>
              </a:rPr>
              <a:t>Use catalytic converters to neutralize dangerous elements bac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ontent Placeholder 2"/>
          <p:cNvSpPr/>
          <p:nvPr/>
        </p:nvSpPr>
        <p:spPr>
          <a:xfrm>
            <a:off x="3924360" y="5300640"/>
            <a:ext cx="5041800" cy="1325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oornut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ornut"/>
              </a:rPr>
              <a:t>Catalysers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Poornut"/>
              </a:rPr>
              <a:t>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paulthurst41_chimney_cleaning_brush"/>
          <p:cNvPicPr/>
          <p:nvPr/>
        </p:nvPicPr>
        <p:blipFill>
          <a:blip r:embed="rId1"/>
          <a:stretch/>
        </p:blipFill>
        <p:spPr>
          <a:xfrm>
            <a:off x="684360" y="4149720"/>
            <a:ext cx="2743200" cy="2509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recycle"/>
          <p:cNvPicPr/>
          <p:nvPr/>
        </p:nvPicPr>
        <p:blipFill>
          <a:blip r:embed="rId2"/>
          <a:stretch/>
        </p:blipFill>
        <p:spPr>
          <a:xfrm>
            <a:off x="3708360" y="4221000"/>
            <a:ext cx="841320" cy="81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recycle"/>
          <p:cNvPicPr/>
          <p:nvPr/>
        </p:nvPicPr>
        <p:blipFill>
          <a:blip r:embed="rId3"/>
          <a:stretch/>
        </p:blipFill>
        <p:spPr>
          <a:xfrm>
            <a:off x="4716360" y="4221000"/>
            <a:ext cx="841320" cy="819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recycle"/>
          <p:cNvPicPr/>
          <p:nvPr/>
        </p:nvPicPr>
        <p:blipFill>
          <a:blip r:embed="rId4"/>
          <a:stretch/>
        </p:blipFill>
        <p:spPr>
          <a:xfrm>
            <a:off x="5796000" y="4221000"/>
            <a:ext cx="841320" cy="819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recycle"/>
          <p:cNvPicPr/>
          <p:nvPr/>
        </p:nvPicPr>
        <p:blipFill>
          <a:blip r:embed="rId5"/>
          <a:stretch/>
        </p:blipFill>
        <p:spPr>
          <a:xfrm>
            <a:off x="6804000" y="4221000"/>
            <a:ext cx="841320" cy="819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recycle"/>
          <p:cNvPicPr/>
          <p:nvPr/>
        </p:nvPicPr>
        <p:blipFill>
          <a:blip r:embed="rId6"/>
          <a:stretch/>
        </p:blipFill>
        <p:spPr>
          <a:xfrm>
            <a:off x="7812000" y="4221000"/>
            <a:ext cx="84132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Baby Kruffy"/>
              </a:rPr>
              <a:t>Clean-up and resto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8218440" cy="211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800" spc="-1" strike="noStrike">
                <a:solidFill>
                  <a:srgbClr val="ffffff"/>
                </a:solidFill>
                <a:latin typeface="Poornut"/>
              </a:rPr>
              <a:t>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Poornut"/>
              </a:rPr>
              <a:t>Adding powdered limestone to rivers and lak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Poornut"/>
              </a:rPr>
              <a:t>Liming forestry plant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Poornut"/>
              </a:rPr>
              <a:t>International agre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ontent Placeholder 2"/>
          <p:cNvSpPr/>
          <p:nvPr/>
        </p:nvSpPr>
        <p:spPr>
          <a:xfrm>
            <a:off x="468360" y="4005360"/>
            <a:ext cx="8424720" cy="2663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oornut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ornut"/>
              </a:rPr>
              <a:t>Costs on repeating treatment regul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ornut"/>
              </a:rPr>
              <a:t>Affects biodiversity in other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ornut"/>
              </a:rPr>
              <a:t>Does not treat the 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ornut"/>
              </a:rPr>
              <a:t>Agreements are difficult to establish and mon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sarnoriverwaterplantson.jpg"/>
          <p:cNvPicPr/>
          <p:nvPr/>
        </p:nvPicPr>
        <p:blipFill>
          <a:blip r:embed="rId1"/>
          <a:stretch/>
        </p:blipFill>
        <p:spPr>
          <a:xfrm>
            <a:off x="6227640" y="2852640"/>
            <a:ext cx="254808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928880" y="0"/>
            <a:ext cx="1500120" cy="6858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0" y="2071800"/>
            <a:ext cx="9144000" cy="15001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Aharoni"/>
                <a:ea typeface="Aharoni"/>
              </a:rPr>
              <a:t>Case stud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In the 1950s there was a great loss of invertebrate fish in Scandinavian lak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The problem was linked to high levels of acidity levels in lak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In 1990 over 400 lakes were lifel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Sweden experimented adding powdered limestone to their lakes and riv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However this method only treats symptoms and not the cau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Biodiversity was not inmediately resto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4886280" y="0"/>
            <a:ext cx="4257720" cy="3629160"/>
            <a:chOff x="4886280" y="0"/>
            <a:chExt cx="4257720" cy="3629160"/>
          </a:xfrm>
        </p:grpSpPr>
        <p:sp>
          <p:nvSpPr>
            <p:cNvPr id="81" name="Gear"/>
            <p:cNvSpPr/>
            <p:nvPr/>
          </p:nvSpPr>
          <p:spPr>
            <a:xfrm>
              <a:off x="7246800" y="0"/>
              <a:ext cx="1897200" cy="1663920"/>
            </a:xfrm>
            <a:custGeom>
              <a:avLst/>
              <a:gdLst>
                <a:gd name="textAreaLeft" fmla="*/ 384120 w 1897200"/>
                <a:gd name="textAreaRight" fmla="*/ 1567080 w 1897200"/>
                <a:gd name="textAreaTop" fmla="*/ 304560 h 1663920"/>
                <a:gd name="textAreaBottom" fmla="*/ 1359360 h 166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4"/>
            <p:cNvSpPr/>
            <p:nvPr/>
          </p:nvSpPr>
          <p:spPr>
            <a:xfrm>
              <a:off x="4886280" y="685800"/>
              <a:ext cx="2268360" cy="1989360"/>
            </a:xfrm>
            <a:custGeom>
              <a:avLst/>
              <a:gdLst>
                <a:gd name="textAreaLeft" fmla="*/ 458640 w 2268360"/>
                <a:gd name="textAreaRight" fmla="*/ 1873080 w 2268360"/>
                <a:gd name="textAreaTop" fmla="*/ 365040 h 1989360"/>
                <a:gd name="textAreaBottom" fmla="*/ 1624320 h 198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5"/>
            <p:cNvSpPr/>
            <p:nvPr/>
          </p:nvSpPr>
          <p:spPr>
            <a:xfrm>
              <a:off x="6357600" y="1419480"/>
              <a:ext cx="2521080" cy="2209680"/>
            </a:xfrm>
            <a:custGeom>
              <a:avLst/>
              <a:gdLst>
                <a:gd name="textAreaLeft" fmla="*/ 511200 w 2521080"/>
                <a:gd name="textAreaRight" fmla="*/ 2082960 w 2521080"/>
                <a:gd name="textAreaTop" fmla="*/ 404640 h 2209680"/>
                <a:gd name="textAreaBottom" fmla="*/ 180360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Calibri"/>
              </a:rPr>
              <a:t>Techniques to treat sit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To reduce emission of sulfur dioxide and nitrogen oxides by removing sulfur from fuel before combus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Reduce the need for electricity and c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Develop more efficient ca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Biological fu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End of pipe measures”- remove sulfur dioxide and nitrogen oxides from the waste g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500" spc="-1" strike="noStrike">
                <a:solidFill>
                  <a:srgbClr val="000000"/>
                </a:solidFill>
                <a:latin typeface="Aharoni"/>
                <a:ea typeface="Aharoni"/>
              </a:rPr>
              <a:t>Success so far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Diagram 3" descr=""/>
          <p:cNvPicPr/>
          <p:nvPr/>
        </p:nvPicPr>
        <p:blipFill>
          <a:blip r:embed="rId1"/>
          <a:stretch/>
        </p:blipFill>
        <p:spPr>
          <a:xfrm>
            <a:off x="1279440" y="1341360"/>
            <a:ext cx="6846840" cy="5065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Program Files\Microsoft Office\MEDIA\CAGCAT10\j0157763.wmf"/>
          <p:cNvPicPr/>
          <p:nvPr/>
        </p:nvPicPr>
        <p:blipFill>
          <a:blip r:embed="rId2"/>
          <a:stretch/>
        </p:blipFill>
        <p:spPr>
          <a:xfrm>
            <a:off x="428760" y="4500720"/>
            <a:ext cx="1795320" cy="1811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Program Files\Microsoft Office\MEDIA\CAGCAT10\j0285360.wmf"/>
          <p:cNvPicPr/>
          <p:nvPr/>
        </p:nvPicPr>
        <p:blipFill>
          <a:blip r:embed="rId3"/>
          <a:stretch/>
        </p:blipFill>
        <p:spPr>
          <a:xfrm>
            <a:off x="7286760" y="4500720"/>
            <a:ext cx="15904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5:12:40Z</dcterms:created>
  <dc:creator>Fatima Dominguez</dc:creator>
  <dc:description/>
  <dc:language>en-US</dc:language>
  <cp:lastModifiedBy>Fatima Dominguez</cp:lastModifiedBy>
  <dcterms:modified xsi:type="dcterms:W3CDTF">2009-12-15T04:32:14Z</dcterms:modified>
  <cp:revision>19</cp:revision>
  <dc:subject/>
  <dc:title>Strategy for reducing pollution</dc:title>
</cp:coreProperties>
</file>